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BD8-9E50-4B84-BCA8-7321B6DC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1B82-6128-45C9-A204-E88A7327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BB8-D72F-4851-BE86-459158D4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E49-58F7-4773-AE9A-988A9618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69F-B537-46E3-8BDC-1268672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9729-36B1-477B-B9D3-978382CD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429-B2B6-4A13-9816-97EA264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BC0-1E8F-4E0D-99C3-168D8398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A0A-5079-4EA9-9C30-662C02B1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3A4-850A-4282-B372-058B7AA0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E61-4DA2-48B3-B774-F514465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176-D810-4218-9438-5557F370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B8E3-9936-4FE3-9F0E-90D264D67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ff66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448800">
            <a:off x="1258920" y="54936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phie Balf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de si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852640"/>
            <a:ext cx="33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06864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63068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3640" y="407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mentor. Miss charla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381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48200" y="303840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0"/>
            <a:ext cx="4229280" cy="16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e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492360" y="19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2565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shl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76720" y="4869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5589720"/>
            <a:ext cx="424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5300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Kina and E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333360"/>
            <a:ext cx="469584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hootz Amish"/>
              </a:rPr>
              <a:t>Family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hootz Amish"/>
              <a:ea typeface="Kahootz Amish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3500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my family I have Four sisters there names are Emily she is 14,Georgia is 17, Maddie is 19 and jess is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2:31:45Z</dcterms:created>
  <dc:creator>Admin</dc:creator>
  <dc:description/>
  <dc:language>en-US</dc:language>
  <cp:lastModifiedBy>Admin</cp:lastModifiedBy>
  <dcterms:modified xsi:type="dcterms:W3CDTF">2009-04-27T23:49:57Z</dcterms:modified>
  <cp:revision>5</cp:revision>
  <dc:subject/>
  <dc:title>Slide 1</dc:title>
</cp:coreProperties>
</file>